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A63-D5B8-431E-8974-D0114D20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EAA-A462-4E70-88D5-2AEBAC8C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8CB-71C3-4163-ABF3-3DD3D32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2C2-0FBB-41FF-B63B-17F8D339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1FD-E167-470E-BD0E-C4381FE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647-0EEA-4E58-8075-AB75724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CC2-9D52-46DC-9789-85FCCE5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23F-CA69-4FF5-B10C-7ED4209D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5A2-8BB3-4ED9-8A43-E5208718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847-7809-422D-8F14-708AA6E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9DD-7AD0-4845-AE85-CE06941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C42-E5D6-4181-9B59-2328E5D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43B-EEA0-4E8B-AF58-AC2A6B832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Cuántos adjectivos podéis encontrar para describir El Babu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58760" y="3267000"/>
            <a:ext cx="3495600" cy="308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083800">
            <a:off x="2198160" y="3788640"/>
            <a:ext cx="187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¡Piens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981000"/>
          <a:ext cx="8424360" cy="5616360"/>
        </p:xfrm>
        <a:graphic>
          <a:graphicData uri="http://schemas.openxmlformats.org/drawingml/2006/table">
            <a:tbl>
              <a:tblPr/>
              <a:tblGrid>
                <a:gridCol w="2106360"/>
                <a:gridCol w="2105640"/>
                <a:gridCol w="2106000"/>
                <a:gridCol w="2106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24000" y="33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¡Piensa y Hab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95280" y="981000"/>
          <a:ext cx="8424360" cy="5616360"/>
        </p:xfrm>
        <a:graphic>
          <a:graphicData uri="http://schemas.openxmlformats.org/drawingml/2006/table">
            <a:tbl>
              <a:tblPr/>
              <a:tblGrid>
                <a:gridCol w="2106360"/>
                <a:gridCol w="2105640"/>
                <a:gridCol w="2106000"/>
                <a:gridCol w="2106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33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¡Piensa y Hab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8:31:40Z</dcterms:created>
  <dc:creator>Helen</dc:creator>
  <dc:description/>
  <dc:language>en-US</dc:language>
  <cp:lastModifiedBy>Helen</cp:lastModifiedBy>
  <dcterms:modified xsi:type="dcterms:W3CDTF">2010-05-02T22:08:17Z</dcterms:modified>
  <cp:revision>4</cp:revision>
  <dc:subject/>
  <dc:title>¿Cuántos adjectivos podéis encontrar para describir El Babuino?</dc:title>
</cp:coreProperties>
</file>